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192-613E-4AA7-BA34-FD573A76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1ED-A4B4-4AEE-8757-D4B7099C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0CD-C979-45E0-ABC3-13FDAFDD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545-E795-44AF-A8EE-5805C87B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0C26-8106-4EF1-967B-3F5240C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D00D-B331-4AE9-9A0B-B4877D6E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D99E-6799-4506-8FEC-4202AAD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494-464E-4DD2-9F1D-274D70B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2DE-5D5D-4956-8128-4CDC9F6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223-80D2-40ED-A95C-32DEF7E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8754-A31B-43EA-A992-BE72B81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365-84EF-4C61-9E19-31C722DB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6D1-0E9D-45E3-90D5-AFD96E11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1163-C38B-43D3-866E-6670F97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2E24-175E-4E46-BC05-CB43234D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4F57-1D51-4602-AC7A-7C1101D3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1E24-71B5-43E8-93E3-588141C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26B-9577-4C33-AFB0-F6E9AA2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FDE-2BCE-465D-AB8D-7ED7ACE0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DB8-9E03-42F7-8580-82C998EE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E4B-7B58-4F5C-8B8C-49B1AC5C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E79-7EF2-4877-8A4D-F8E66E6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FF8-13D6-47E3-B0BE-1A56BF3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685-E2D5-4A44-9B81-EA78E00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F3A-77D1-4D03-9486-8CFB183E03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336600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06C-5C0C-43D5-B330-71568C42B3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7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riting Complex Sent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5"/>
          <p:cNvSpPr/>
          <p:nvPr/>
        </p:nvSpPr>
        <p:spPr>
          <a:xfrm>
            <a:off x="777960" y="5060880"/>
            <a:ext cx="72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endent clause needs the rest of the sentence for suppor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4440" y="3132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you love me, I love you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1408320" y="2057400"/>
            <a:ext cx="3436200" cy="1076040"/>
            <a:chOff x="1408320" y="2057400"/>
            <a:chExt cx="3436200" cy="1076040"/>
          </a:xfrm>
        </p:grpSpPr>
        <p:sp>
          <p:nvSpPr>
            <p:cNvPr id="105" name="AutoShape 27"/>
            <p:cNvSpPr/>
            <p:nvPr/>
          </p:nvSpPr>
          <p:spPr>
            <a:xfrm rot="16218600">
              <a:off x="2859480" y="1140480"/>
              <a:ext cx="533520" cy="343332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89280 h 3433320"/>
                <a:gd name="textAreaBottom" fmla="*/ 3344040 h 34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1497240" y="2057400"/>
              <a:ext cx="299340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4497480" y="3581640"/>
            <a:ext cx="3123720" cy="921600"/>
            <a:chOff x="4497480" y="3581640"/>
            <a:chExt cx="3123720" cy="921600"/>
          </a:xfrm>
        </p:grpSpPr>
        <p:sp>
          <p:nvSpPr>
            <p:cNvPr id="108" name="AutoShape 29"/>
            <p:cNvSpPr/>
            <p:nvPr/>
          </p:nvSpPr>
          <p:spPr>
            <a:xfrm flipV="1" rot="5381400">
              <a:off x="5868720" y="2954160"/>
              <a:ext cx="380880" cy="1644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2840 h 1644120"/>
                <a:gd name="textAreaBottom" fmla="*/ 1601280 h 16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4497480" y="4043520"/>
              <a:ext cx="312372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179360" y="3743280"/>
            <a:ext cx="724248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 clau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a subject and verb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express a complete thought because it begins with a subordinating conjunction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pendent clause is 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ordin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us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ike babi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 al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89280"/>
            <a:ext cx="449604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Garamond"/>
              </a:rPr>
              <a:t>Because you love m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4800600" y="1774800"/>
            <a:ext cx="2286000" cy="900000"/>
            <a:chOff x="4800600" y="1774800"/>
            <a:chExt cx="2286000" cy="900000"/>
          </a:xfrm>
        </p:grpSpPr>
        <p:sp>
          <p:nvSpPr>
            <p:cNvPr id="114" name="Text Box 11"/>
            <p:cNvSpPr/>
            <p:nvPr/>
          </p:nvSpPr>
          <p:spPr>
            <a:xfrm>
              <a:off x="4800600" y="1774800"/>
              <a:ext cx="2286000" cy="581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Fragment!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 flipH="1">
              <a:off x="5181480" y="2446200"/>
              <a:ext cx="533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Clau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200" y="2338560"/>
            <a:ext cx="77137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s are used to join a dependent claus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dependent cla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dependent cla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the sentence. The comma mu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I walked down the hallway , I could hear the echo of my footstep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 flipH="1">
            <a:off x="5486400" y="4359240"/>
            <a:ext cx="574560" cy="61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2338560"/>
            <a:ext cx="8001000" cy="38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 is used when the dependent clau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dependent clause. Then,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s are joined without any punct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hear the echo of my footsteps as I walked down the hallw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nctuation for Complex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2212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dependent clauses are only part of a sentence, you can never use a semicolon to connect them to another sentence.  Semicolons are only u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lete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;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ave loved you for years although I never admitted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557680" y="3929040"/>
            <a:ext cx="59400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557680" y="5025960"/>
            <a:ext cx="1084320" cy="618840"/>
            <a:chOff x="5557680" y="5025960"/>
            <a:chExt cx="1084320" cy="618840"/>
          </a:xfrm>
        </p:grpSpPr>
        <p:sp>
          <p:nvSpPr>
            <p:cNvPr id="126" name="Text Box 7"/>
            <p:cNvSpPr/>
            <p:nvPr/>
          </p:nvSpPr>
          <p:spPr>
            <a:xfrm>
              <a:off x="6053040" y="5276520"/>
              <a:ext cx="588960" cy="36828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 flipV="1">
              <a:off x="5557680" y="5025960"/>
              <a:ext cx="4636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6151680" y="4410000"/>
            <a:ext cx="997920" cy="368280"/>
            <a:chOff x="6151680" y="4410000"/>
            <a:chExt cx="997920" cy="368280"/>
          </a:xfrm>
        </p:grpSpPr>
        <p:sp>
          <p:nvSpPr>
            <p:cNvPr id="129" name="Text Box 6"/>
            <p:cNvSpPr/>
            <p:nvPr/>
          </p:nvSpPr>
          <p:spPr>
            <a:xfrm>
              <a:off x="6561000" y="4410000"/>
              <a:ext cx="588600" cy="368280"/>
            </a:xfrm>
            <a:prstGeom prst="rect">
              <a:avLst/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o!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 flipV="1">
              <a:off x="6151680" y="4410000"/>
              <a:ext cx="49032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8880" y="507600"/>
            <a:ext cx="827712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Subordinating (Dependent) Conjunc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oundations Fir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. 1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8534520" cy="4199040"/>
        </p:xfrm>
        <a:graphic>
          <a:graphicData uri="http://schemas.openxmlformats.org/drawingml/2006/table">
            <a:tbl>
              <a:tblPr/>
              <a:tblGrid>
                <a:gridCol w="1600200"/>
                <a:gridCol w="1812960"/>
                <a:gridCol w="1997280"/>
                <a:gridCol w="1417680"/>
                <a:gridCol w="17064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w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 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her 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 t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f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mpound-Complex Sen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4560" y="2593800"/>
            <a:ext cx="747072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ound-complex sentence is the last and most complicated type of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contains at least one dependent clause and at least two independent clau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2"/>
          <p:cNvSpPr/>
          <p:nvPr/>
        </p:nvSpPr>
        <p:spPr>
          <a:xfrm>
            <a:off x="865080" y="5716440"/>
            <a:ext cx="77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pendent clause added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more independent clau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52480" y="297180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we are a famil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ove you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love 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3431880" y="4268520"/>
            <a:ext cx="3809880" cy="1067040"/>
            <a:chOff x="3431880" y="4268520"/>
            <a:chExt cx="3809880" cy="1067040"/>
          </a:xfrm>
        </p:grpSpPr>
        <p:sp>
          <p:nvSpPr>
            <p:cNvPr id="138" name="Text Box 27"/>
            <p:cNvSpPr/>
            <p:nvPr/>
          </p:nvSpPr>
          <p:spPr>
            <a:xfrm>
              <a:off x="3965400" y="4827600"/>
              <a:ext cx="3276360" cy="45972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ndependent clauses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H="1" flipV="1">
              <a:off x="3431880" y="4268520"/>
              <a:ext cx="1447560" cy="99036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 flipV="1">
              <a:off x="5413320" y="4344840"/>
              <a:ext cx="1294920" cy="990720"/>
            </a:xfrm>
            <a:prstGeom prst="line">
              <a:avLst/>
            </a:prstGeom>
            <a:ln w="93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1" name="Group 32"/>
          <p:cNvGrpSpPr/>
          <p:nvPr/>
        </p:nvGrpSpPr>
        <p:grpSpPr>
          <a:xfrm>
            <a:off x="2089440" y="1981080"/>
            <a:ext cx="5582160" cy="1005840"/>
            <a:chOff x="2089440" y="1981080"/>
            <a:chExt cx="5582160" cy="1005840"/>
          </a:xfrm>
        </p:grpSpPr>
        <p:sp>
          <p:nvSpPr>
            <p:cNvPr id="142" name="Text Box 25"/>
            <p:cNvSpPr/>
            <p:nvPr/>
          </p:nvSpPr>
          <p:spPr>
            <a:xfrm>
              <a:off x="2376720" y="1981080"/>
              <a:ext cx="4864320" cy="45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pendent clause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AutoShape 31"/>
            <p:cNvSpPr/>
            <p:nvPr/>
          </p:nvSpPr>
          <p:spPr>
            <a:xfrm rot="16218600">
              <a:off x="4632840" y="-65520"/>
              <a:ext cx="495360" cy="5579640"/>
            </a:xfrm>
            <a:custGeom>
              <a:avLst/>
              <a:gdLst>
                <a:gd name="textAreaLeft" fmla="*/ 0 w 495360"/>
                <a:gd name="textAreaRight" fmla="*/ 178920 w 495360"/>
                <a:gd name="textAreaTop" fmla="*/ 145440 h 5579640"/>
                <a:gd name="textAreaBottom" fmla="*/ 5434200 h 55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93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ound-Complex Sente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3880" y="2209680"/>
          <a:ext cx="6248520" cy="3143520"/>
        </p:xfrm>
        <a:graphic>
          <a:graphicData uri="http://schemas.openxmlformats.org/drawingml/2006/table">
            <a:tbl>
              <a:tblPr/>
              <a:tblGrid>
                <a:gridCol w="2830680"/>
                <a:gridCol w="341784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Si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l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ff"/>
                          </a:solidFill>
                          <a:latin typeface="Verdana"/>
                        </a:rPr>
                        <a:t>Compound-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94"/>
          <p:cNvSpPr/>
          <p:nvPr/>
        </p:nvSpPr>
        <p:spPr>
          <a:xfrm>
            <a:off x="623880" y="255600"/>
            <a:ext cx="78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every sentence in English fits into one of these four categories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4680" y="304560"/>
            <a:ext cx="8292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ow know everything you need to kn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2424240"/>
            <a:ext cx="80010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write anything you want to writ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way you want to write i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till get the punctuation right each tim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021040"/>
            <a:ext cx="8001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ains a subject, verb, and makes sense when it stands by itsel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ild’s endless crying is very disturbing to her par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s, flu, and other respiratory infections happen frequently in the winter and cause absences from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got a cup of coffee and turned on his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and Dependent Cla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4200" y="2084400"/>
            <a:ext cx="80010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use contains a subject(s)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b(s), but it does not make sense when 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s by itself because it begins with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ub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upposed to jo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o an independent cla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he has had a terrible cold all wee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 got to the office and checked my email this mo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Maria and Hector waited for an hour in the doctor’s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Simple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2403360"/>
            <a:ext cx="6210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mple sentence is 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ds with a period or semicol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ound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3720" y="2084040"/>
            <a:ext cx="76118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made up of two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imple sentences joined by one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a and a coordinating conj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colon and a conjunctive adverb or transitional ex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ordinating Conjunc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2126880"/>
            <a:ext cx="8301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e coordinating conjunctions by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ronym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NBO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ctive Adverb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and Transitional Expr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2062080"/>
            <a:ext cx="80010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junctive adver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word that connects two independent clauses and shows the relationship between the ide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anted to cash my che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fortunat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bank was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ansi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phrase that shows that relationshi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uld use a job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 the other h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ike having free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Compound Sent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3720" y="2168640"/>
            <a:ext cx="7611840" cy="39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comma and a 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 semicolon and a conjunctive adverb or transitional expre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 ther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omplex Sent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3978360"/>
          </a:xfrm>
          <a:prstGeom prst="rect">
            <a:avLst/>
          </a:prstGeom>
          <a:noFill/>
          <a:ln w="1260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lex sentence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to which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ough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s been ad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0099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ordinating conjunction join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endent cla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to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I like to study grammar, I love this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0099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love this class because I like to study gramm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30T23:29:26Z</dcterms:created>
  <dc:creator>Linda J. Stine</dc:creator>
  <dc:description/>
  <dc:language>en-US</dc:language>
  <cp:lastModifiedBy>KISD</cp:lastModifiedBy>
  <dcterms:modified xsi:type="dcterms:W3CDTF">2011-03-29T16:11:03Z</dcterms:modified>
  <cp:revision>55</cp:revision>
  <dc:subject/>
  <dc:title>Writing Complex Sentences</dc:title>
</cp:coreProperties>
</file>